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BFD-A01C-4C47-81CC-E2D2F19C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B3C-9E4F-4567-884F-C2E9A140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215-EB05-4A6F-A7AB-22ADD786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510-E5D6-48A9-BC7B-A27ED744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4966-9153-46B2-99D9-3663FF64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96D8-71E6-4ED2-9D52-204639C2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9880-D0A4-4613-AD41-AEC5D49B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6D2-6D40-47A0-9040-D7012F5B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3473-B743-4942-80FF-95EDFE27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B16D-691A-4407-A135-08F7E2E9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41FC-DB5B-4B2E-B9D1-EB052E8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37C-68DA-4BFE-985B-BCC340D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AA93-8C00-45D0-93D0-9FACD80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17B2-F64E-4F3D-BCE4-ADE210B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8988-39BA-4290-BB78-7448CBB0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61C4-D694-44C5-80D7-7AE8CE05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4E0F-1D1A-47EB-A8A3-7A6913E4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91C-B288-42F3-BE3A-3C167C45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138-CD99-49C4-9ED0-7D755C63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922-CB29-49F1-B8E7-AB8D6DD7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6EB-CBCA-4115-9F09-410CA6D7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18D-7101-47D3-BF96-6D34C18A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9F0-853A-4101-8EE7-0A2639E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F28-26AE-4F70-A349-147A054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351C-3F62-47F8-B2FA-76A99EF982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F095-499D-4E08-B110-7EB95DD8AC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adius, find the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H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= 24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about 14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Total Surface area of the cyl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πx 2) + (2.35x2xπx14.2) = 227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7.02 x 14 = Cost of the Metal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sheet cost = $34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Concre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would have 0.5 meters added to the original container. the concrete’s radius = 2.85 height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concrete = 2.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π x 0.2 =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t of concrete = 5.1 x 640 = $3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TOTAL COST = $3421.6+$3264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$668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What we found out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6858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50 Families would need water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45700 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let Flu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Clot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Dis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L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 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er with Radiu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5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igh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.2 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685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943600" y="2819520"/>
          <a:ext cx="31240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19520"/>
                    <a:ext cx="31240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amilies would need 245700 liters for li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ter is converted to 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5700 Liters = 245.7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earch, found that larger height makes the shape to be che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ase cannot be too small and just tall, because then it will collapse ver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on which dimension is the best. (Longest 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the building from falling sideways, the diameter of the base has to be 3~4 times smaller than heigh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cylinder = Radiu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π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 = 3 x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2R(Diameter) x 3 x π = 24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6R = 78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R = 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성민 학교프로그램용</cp:lastModifiedBy>
  <dcterms:modified xsi:type="dcterms:W3CDTF">2008-12-01T10:34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